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4B99-A658-436B-AC99-9F8BC3079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C5B7A-2CD0-4EE6-98DC-1374F908D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03F0-1C3D-4A0E-829A-A42D84BCC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CDE4-060D-466B-A674-69394090F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6DB5-56BA-4BD2-B23B-4D80856A3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2072-055B-45C9-A3F0-30B1CCFD0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F099-9451-4F67-B273-8016BA182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14AE3-6578-4C3D-9259-9A4CBAA7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70631-36C0-4ED1-8510-14E46447D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E2D0-A38A-4469-AF4A-A00A86B6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5E79-E088-49C8-A602-319FCAC9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1814-A898-4C4D-94E0-6521355E1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0414-E4B0-47C1-A582-C21114C2D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heories of Life Genera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What are the Theories of Life Generation?</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t is a set of theories about the study how life on Earth begin from non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main theorie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Divine generation </a:t>
            </a:r>
            <a:r>
              <a:rPr b="0" lang="es-ES" sz="3200" spc="-1" strike="noStrike">
                <a:solidFill>
                  <a:srgbClr val="000000"/>
                </a:solidFill>
                <a:latin typeface="Arial"/>
              </a:rPr>
              <a:t>of</a:t>
            </a:r>
            <a:r>
              <a:rPr b="1" lang="es-ES" sz="3200" spc="-1" strike="noStrike">
                <a:solidFill>
                  <a:srgbClr val="000000"/>
                </a:solidFill>
                <a:latin typeface="Arial"/>
              </a:rPr>
              <a:t> </a:t>
            </a:r>
            <a:r>
              <a:rPr b="0" lang="es-ES" sz="3200" spc="-1" strike="noStrike">
                <a:solidFill>
                  <a:srgbClr val="000000"/>
                </a:solidFill>
                <a:latin typeface="Arial"/>
              </a:rPr>
              <a:t>earth and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Spontaneous generation</a:t>
            </a:r>
            <a:r>
              <a:rPr b="0" lang="es-ES" sz="3200" spc="-1" strike="noStrike">
                <a:solidFill>
                  <a:srgbClr val="000000"/>
                </a:solidFill>
                <a:latin typeface="Arial"/>
              </a:rPr>
              <a:t> of life from non-living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Extraterrestrial life </a:t>
            </a:r>
            <a:r>
              <a:rPr b="0" lang="es-ES" sz="3200" spc="-1" strike="noStrike">
                <a:solidFill>
                  <a:srgbClr val="000000"/>
                </a:solidFill>
                <a:latin typeface="Arial"/>
              </a:rPr>
              <a:t>formed in space or on another planet (Mars 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arin theorie</a:t>
            </a:r>
            <a:r>
              <a:rPr b="0" lang="es-ES" sz="3200" spc="-1" strike="noStrike">
                <a:solidFill>
                  <a:srgbClr val="000000"/>
                </a:solidFill>
                <a:latin typeface="Arial"/>
              </a:rPr>
              <a:t> of Alexander Oparin was the first scientific theory (1924). Supposed that in early atmospheric conditions of Earth had chemical reactions due to the electrical energy of rays, thermical energy of earth and primitive oceans. This reactions created the first organic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w were these theories proved right and wro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pontaneous generation theorie was proved wrong by Pas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divine generation can not be 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t The Oparin theory was partially proved by Stanley Miller in 19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ller 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332000" y="1557360"/>
            <a:ext cx="6335640" cy="50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oose the theory you consider correct. Justify your answer.</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 consider the Oparin theory correct because this theory was partially proved right with the experiment of Mil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urc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http://www.monografias.com/trabajos11/bioceroc/bioceroc.shtml</a:t>
            </a:r>
            <a:endParaRPr b="0" lang="en-US" sz="1400" spc="-1" strike="noStrike">
              <a:solidFill>
                <a:srgbClr val="000000"/>
              </a:solidFill>
              <a:latin typeface="Arial"/>
            </a:endParaRPr>
          </a:p>
        </p:txBody>
      </p:sp>
      <p:sp>
        <p:nvSpPr>
          <p:cNvPr id="54" name=""/>
          <p:cNvSpPr/>
          <p:nvPr/>
        </p:nvSpPr>
        <p:spPr>
          <a:xfrm>
            <a:off x="952560" y="5208480"/>
            <a:ext cx="618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es.wikipedia.org/wiki/Origen_de_la_vida#Los_experimentos_de_Mill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0:26:49Z</dcterms:created>
  <dc:creator>mluna</dc:creator>
  <dc:description/>
  <dc:language>en-US</dc:language>
  <cp:lastModifiedBy>mluna</cp:lastModifiedBy>
  <dcterms:modified xsi:type="dcterms:W3CDTF">2009-03-24T02:43:53Z</dcterms:modified>
  <cp:revision>8</cp:revision>
  <dc:subject/>
  <dc:title>Theories of Life Generation </dc:title>
</cp:coreProperties>
</file>