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76B6D-144D-4152-B3C9-EF6B55673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46B18-1FFA-44DF-B47D-2CB2A8CC0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A2391-27C6-467F-8BD9-5A50BDEB2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1904E-B13F-48C4-899F-B36C9309F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F648A-8CAE-4E9A-A4EB-F53D11430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733A2-D933-42C2-9D39-02F5E24D7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EA680-B277-421B-9927-CE94D390C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51F98-0D09-4EB9-9F36-3C422B711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1B8FF-3028-43DA-B7B7-6EB8943D0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CBB6-6D05-4C65-A297-77CAD5829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E73FE-A3A8-49EC-ABAB-0E55D509C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C33B-E90D-4247-B13F-BDBD40896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2C26-CEB6-4CEE-86AD-B5E3FE6385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heories of Life Generation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What are the Theories of Life Generation?</a:t>
            </a:r>
            <a:br>
              <a:rPr sz="3600"/>
            </a:b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t is a set of theories about the study how life on Earth begin from non living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main theorie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Divine generation </a:t>
            </a:r>
            <a:r>
              <a:rPr b="0" lang="es-ES" sz="3200" spc="-1" strike="noStrike">
                <a:solidFill>
                  <a:srgbClr val="000000"/>
                </a:solidFill>
                <a:latin typeface="Arial"/>
              </a:rPr>
              <a:t>of</a:t>
            </a:r>
            <a:r>
              <a:rPr b="1" lang="es-ES" sz="3200" spc="-1" strike="noStrike">
                <a:solidFill>
                  <a:srgbClr val="000000"/>
                </a:solidFill>
                <a:latin typeface="Arial"/>
              </a:rPr>
              <a:t> </a:t>
            </a:r>
            <a:r>
              <a:rPr b="0" lang="es-ES" sz="3200" spc="-1" strike="noStrike">
                <a:solidFill>
                  <a:srgbClr val="000000"/>
                </a:solidFill>
                <a:latin typeface="Arial"/>
              </a:rPr>
              <a:t>earth and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Spontaneous generation</a:t>
            </a:r>
            <a:r>
              <a:rPr b="0" lang="es-ES" sz="3200" spc="-1" strike="noStrike">
                <a:solidFill>
                  <a:srgbClr val="000000"/>
                </a:solidFill>
                <a:latin typeface="Arial"/>
              </a:rPr>
              <a:t> of life from non-living ma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Extraterrestrial life </a:t>
            </a:r>
            <a:r>
              <a:rPr b="0" lang="es-ES" sz="3200" spc="-1" strike="noStrike">
                <a:solidFill>
                  <a:srgbClr val="000000"/>
                </a:solidFill>
                <a:latin typeface="Arial"/>
              </a:rPr>
              <a:t>formed in space or on another planet (Mars for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parin theorie</a:t>
            </a:r>
            <a:r>
              <a:rPr b="0" lang="es-ES" sz="3200" spc="-1" strike="noStrike">
                <a:solidFill>
                  <a:srgbClr val="000000"/>
                </a:solidFill>
                <a:latin typeface="Arial"/>
              </a:rPr>
              <a:t> of Alexander Oparin was the first scientific theory (1924). Supposed that in early atmospheric conditions of Earth had chemical reactions due to the electrical energy of rays, thermical energy of earth and primitive oceans. This reactions created the first organic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w were these theories proved right and wro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spontaneous generation theorie was proved wrong by Paste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divine generation can not be pr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t The Oparin theory was partially proved by Stanley Miller in 19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ller Experi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332000" y="1557360"/>
            <a:ext cx="6335640" cy="50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hoose the theory you consider correct. Justify your answer.</a:t>
            </a:r>
            <a:br>
              <a:rPr sz="3200"/>
            </a:b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 consider the Oparin theory correct because this theory was partially proved right with the experiment of Mill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urc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http://www.monografias.com/trabajos11/bioceroc/bioceroc.shtml</a:t>
            </a:r>
            <a:endParaRPr b="0" lang="en-US" sz="1400" spc="-1" strike="noStrike">
              <a:solidFill>
                <a:srgbClr val="000000"/>
              </a:solidFill>
              <a:latin typeface="Arial"/>
            </a:endParaRPr>
          </a:p>
        </p:txBody>
      </p:sp>
      <p:sp>
        <p:nvSpPr>
          <p:cNvPr id="54" name=""/>
          <p:cNvSpPr/>
          <p:nvPr/>
        </p:nvSpPr>
        <p:spPr>
          <a:xfrm>
            <a:off x="952560" y="5208480"/>
            <a:ext cx="618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es.wikipedia.org/wiki/Origen_de_la_vida#Los_experimentos_de_Mill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0:26:49Z</dcterms:created>
  <dc:creator>mluna</dc:creator>
  <dc:description/>
  <dc:language>en-US</dc:language>
  <cp:lastModifiedBy>mluna</cp:lastModifiedBy>
  <dcterms:modified xsi:type="dcterms:W3CDTF">2009-03-24T02:43:53Z</dcterms:modified>
  <cp:revision>8</cp:revision>
  <dc:subject/>
  <dc:title>Theories of Life Generation </dc:title>
</cp:coreProperties>
</file>