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CF05-0AB8-45A7-9174-EEC257A6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CD3-E946-4CE4-860A-9DFAA625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996C-F996-4517-A5D6-51079A99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C574-DA2C-4ECB-9B49-5C7C58C0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4539-8923-4F01-BFB7-998F0881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D615-3B98-4BEF-AA7A-CF0510EF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887E-83CC-48F3-80F4-4E86EF69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5E91-0172-4264-A4B6-9C253375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F69-703F-4F0B-88F9-135227DA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1C8C-17EA-4E37-A547-81DD15F1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006-6828-44A5-A7ED-0D72E89F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735-0E87-4479-9EA1-5F69B8C8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2CD6-180D-4805-A382-805485C070B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harles_Darwin" TargetMode="External"/><Relationship Id="rId2" Type="http://schemas.openxmlformats.org/officeDocument/2006/relationships/hyperlink" Target="http://en.wikipedia.org/wiki/Charles_Darwin" TargetMode="External"/><Relationship Id="rId3" Type="http://schemas.openxmlformats.org/officeDocument/2006/relationships/hyperlink" Target="http://en.wikipedia.org/wiki/Evolution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Survival of the Fittest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rvival of the fit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iginally applied by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bert Spence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arles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arwi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'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theory of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volutio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059280" y="2852640"/>
            <a:ext cx="2736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eaning of “survival of the fittes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aptation of the species to the envir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production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tion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tion 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mportance in society, science, economy, and medic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t is very important for us because the evolution explain us where we come from, the origin of the life and where we are going in the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4770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 medicine there are the Antibiotics resistance of bacteries and virus because their evolution, for example HIV virus, tetanus and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ntibiotics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File:Antibiotic resistance.svg"/>
          <p:cNvPicPr/>
          <p:nvPr/>
        </p:nvPicPr>
        <p:blipFill>
          <a:blip r:embed="rId1"/>
          <a:stretch/>
        </p:blipFill>
        <p:spPr>
          <a:xfrm>
            <a:off x="3348000" y="2060640"/>
            <a:ext cx="246852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7:28:26Z</dcterms:created>
  <dc:creator>mluna</dc:creator>
  <dc:description/>
  <dc:language>en-US</dc:language>
  <cp:lastModifiedBy>Ana</cp:lastModifiedBy>
  <dcterms:modified xsi:type="dcterms:W3CDTF">2009-03-23T03:16:14Z</dcterms:modified>
  <cp:revision>4</cp:revision>
  <dc:subject/>
  <dc:title>Survival of the Fittest </dc:title>
</cp:coreProperties>
</file>