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87E-2C0B-4853-8BC1-97CBE3A0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D535-A659-4426-8160-23BA52CC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9D81-5ABC-4F49-9FED-722C4DFB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1181-F9BD-4DA5-B9B1-3177208B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0C4A-12A5-4272-847C-32209F0A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D392-E684-4A05-BAB1-514A2A60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976C-D82B-4687-942F-540352A3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F273-814F-44A4-B566-0D4438F5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60F1-18A0-4984-AEE0-D43D34B6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AF8D-A37C-43D2-B0BC-E8C36578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9303-87B5-4BF4-B5A2-4F2A1ED0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AF00-6F72-4596-916C-8E718C6D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223E-2C5E-4BB5-85B3-3F427841779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harles_Darwin" TargetMode="External"/><Relationship Id="rId2" Type="http://schemas.openxmlformats.org/officeDocument/2006/relationships/hyperlink" Target="http://en.wikipedia.org/wiki/Charles_Darwin" TargetMode="External"/><Relationship Id="rId3" Type="http://schemas.openxmlformats.org/officeDocument/2006/relationships/hyperlink" Target="http://en.wikipedia.org/wiki/Evolution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Survival of the Fittest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rvival of the fit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iginally applied by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bert Spence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arles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arwi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'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theory of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volutio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059280" y="2852640"/>
            <a:ext cx="2736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eaning of “survival of the fittes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aptation of the species to the envir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production of th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olution of th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olution 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mportance in society, science, economy, and medici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t is very important for us because the evolution explain us where we come from, the origin of the life and where we are going in the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54770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 medicine there are the Antibiotics resistance of bacteries and virus because their evolution, for example HIV virus, tetanus and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ntibiotics 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File:Antibiotic resistance.svg"/>
          <p:cNvPicPr/>
          <p:nvPr/>
        </p:nvPicPr>
        <p:blipFill>
          <a:blip r:embed="rId1"/>
          <a:stretch/>
        </p:blipFill>
        <p:spPr>
          <a:xfrm>
            <a:off x="3348000" y="2060640"/>
            <a:ext cx="246852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7:28:26Z</dcterms:created>
  <dc:creator>mluna</dc:creator>
  <dc:description/>
  <dc:language>en-US</dc:language>
  <cp:lastModifiedBy>Ana</cp:lastModifiedBy>
  <dcterms:modified xsi:type="dcterms:W3CDTF">2009-03-23T03:16:14Z</dcterms:modified>
  <cp:revision>4</cp:revision>
  <dc:subject/>
  <dc:title>Survival of the Fittest </dc:title>
</cp:coreProperties>
</file>