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F72-0471-4DD7-81C2-E8938024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447-1D8A-410E-A669-828D709A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383-4841-4050-A9E7-2FA1D271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3A2-212B-4BB6-8CD5-B2531CCA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FAF-5A3D-43A0-AE03-387E5097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5D2-A89D-4C5A-8D60-7E4FC98E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0EE-99CD-4CE5-8880-0880F162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46B-8329-42CB-9FB1-A6959DA0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6A3-94FC-4F48-839C-0B4AB5B1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C53-0F2D-4895-B326-4FE3E4EB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3F3-5F00-4C61-ACBC-3DB85442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731-6B96-4F46-849C-01DD9041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467B-883D-47CA-8395-8A9A82A91A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harles_Darwin" TargetMode="External"/><Relationship Id="rId2" Type="http://schemas.openxmlformats.org/officeDocument/2006/relationships/hyperlink" Target="http://en.wikipedia.org/wiki/Charles_Darwin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ginally applied by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le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rwi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heory of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voluti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59280" y="2852640"/>
            <a:ext cx="273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aning of “survival of the fitte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aptation of the species to the envir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roduc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ortance in society, science, economy, and medic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t is very important for us because the evolution explain us where we come from, the origin of the life and where we are going in the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477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medicine there are the Antibiotics resistance of bacteries and virus because their evolution, for example HIV virus, tetanus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tibiotics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Antibiotic resistance.svg"/>
          <p:cNvPicPr/>
          <p:nvPr/>
        </p:nvPicPr>
        <p:blipFill>
          <a:blip r:embed="rId1"/>
          <a:stretch/>
        </p:blipFill>
        <p:spPr>
          <a:xfrm>
            <a:off x="3348000" y="2060640"/>
            <a:ext cx="24685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28:26Z</dcterms:created>
  <dc:creator>mluna</dc:creator>
  <dc:description/>
  <dc:language>en-US</dc:language>
  <cp:lastModifiedBy>Ana</cp:lastModifiedBy>
  <dcterms:modified xsi:type="dcterms:W3CDTF">2009-03-23T03:16:14Z</dcterms:modified>
  <cp:revision>4</cp:revision>
  <dc:subject/>
  <dc:title>Survival of the Fittest </dc:title>
</cp:coreProperties>
</file>