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3A0F-FDAA-4CC3-8B28-D8F577C5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FB1E-D12D-4A0A-A0D8-C0AE1F47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D2B1-7D23-4247-9A82-EF66FD012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18C9-5FEA-4D87-A192-C4F4F0FD3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BA06-850B-44BB-AF56-27D5C1E5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E43F-A9A9-4095-BCD6-E3243C8A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C0E3-899D-4D71-86D7-76B68567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E491-5CBC-4414-A9C4-DA6BE54E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BFAF-214D-44C7-A473-A5BE592A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3D60-DC33-4740-8CC0-8FDC4903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1E00-5F62-496C-A30B-DA2ACB68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011C-8EE3-4AD0-B1DA-49D4D6C3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DF58-55D4-4BD1-B5F2-63EBA56B21D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harles_Darwin" TargetMode="External"/><Relationship Id="rId2" Type="http://schemas.openxmlformats.org/officeDocument/2006/relationships/hyperlink" Target="http://en.wikipedia.org/wiki/Charles_Darwin" TargetMode="External"/><Relationship Id="rId3" Type="http://schemas.openxmlformats.org/officeDocument/2006/relationships/hyperlink" Target="http://en.wikipedia.org/wiki/Evolution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Survival of the Fittest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rvival of the fit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riginally applied by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erbert Spence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arles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arwi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'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theory of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volutio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059280" y="2852640"/>
            <a:ext cx="2736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eaning of “survival of the fittest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aptation of the species to the envir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production of the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olution of the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olution 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mportance in society, science, economy, and medici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t is very important for us because the evolution explain us where we come from, the origin of the life and where we are going in the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3640" y="3933720"/>
            <a:ext cx="54770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 medicine there are the Antibiotics resistance of bacteries and virus because their evolution, for example HIV virus, tetanus and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ntibiotics Res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File:Antibiotic resistance.svg"/>
          <p:cNvPicPr/>
          <p:nvPr/>
        </p:nvPicPr>
        <p:blipFill>
          <a:blip r:embed="rId1"/>
          <a:stretch/>
        </p:blipFill>
        <p:spPr>
          <a:xfrm>
            <a:off x="3348000" y="2060640"/>
            <a:ext cx="246852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7:28:26Z</dcterms:created>
  <dc:creator>mluna</dc:creator>
  <dc:description/>
  <dc:language>en-US</dc:language>
  <cp:lastModifiedBy>Ana</cp:lastModifiedBy>
  <dcterms:modified xsi:type="dcterms:W3CDTF">2009-03-23T03:16:14Z</dcterms:modified>
  <cp:revision>4</cp:revision>
  <dc:subject/>
  <dc:title>Survival of the Fittest </dc:title>
</cp:coreProperties>
</file>