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8D9-2FEF-41FF-A911-9EDFD1ED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E4F-5693-49C7-8CE8-D0AEC17C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A0A-9648-446C-9522-1CE24085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9D0-1B86-407E-B917-2E930E96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7E0-AD2D-4A2D-8CEB-795AC568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C84-3D8B-4543-A134-7F24CC47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FA9-A84A-4FD1-A0EC-0CA07053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923-840E-4445-A591-7D7A7DD0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7B5-41A9-40FE-B061-B67B4192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AE5-98DA-401D-B26F-CAD1DE77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43A-BDEE-4C33-90A9-1CF88BD2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389-A313-4C06-AA39-B5B2B710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D7F5-B11C-4C26-B28F-289375E6F3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harles_Darwin" TargetMode="External"/><Relationship Id="rId2" Type="http://schemas.openxmlformats.org/officeDocument/2006/relationships/hyperlink" Target="http://en.wikipedia.org/wiki/Charles_Darwin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iginally applied by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le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rwi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'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theory of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volutio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059280" y="2852640"/>
            <a:ext cx="2736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aning of “survival of the fittes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aptation of the species to the envir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roduc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ortance in society, science, economy, and medic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t is very important for us because the evolution explain us where we come from, the origin of the life and where we are going in the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4770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medicine there are the Antibiotics resistance of bacteries and virus because their evolution, for example HIV virus, tetanus and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tibiotics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le:Antibiotic resistance.svg"/>
          <p:cNvPicPr/>
          <p:nvPr/>
        </p:nvPicPr>
        <p:blipFill>
          <a:blip r:embed="rId1"/>
          <a:stretch/>
        </p:blipFill>
        <p:spPr>
          <a:xfrm>
            <a:off x="3348000" y="2060640"/>
            <a:ext cx="24685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28:26Z</dcterms:created>
  <dc:creator>mluna</dc:creator>
  <dc:description/>
  <dc:language>en-US</dc:language>
  <cp:lastModifiedBy>Ana</cp:lastModifiedBy>
  <dcterms:modified xsi:type="dcterms:W3CDTF">2009-03-23T03:16:14Z</dcterms:modified>
  <cp:revision>4</cp:revision>
  <dc:subject/>
  <dc:title>Survival of the Fittest </dc:title>
</cp:coreProperties>
</file>