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98B-042F-428C-91E2-515EF4D6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3FC-62CD-491D-9CDB-A2594D7C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A66-7A6F-4FC9-94B2-7266AD97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C76-8356-4E35-9A45-B394DA7F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8E7F-55A5-4EF9-AF41-5095B580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971-DBF0-4D58-8105-EDFE872E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CC7-BF71-413A-8C2D-399972FF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37A-1C35-46D1-902D-1717381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D42-AD74-4EBA-B95F-856441B6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A91-266C-47C9-AB9C-31761A26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4F4-70EE-4A85-B31C-F6E590F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D42-AAE2-4E1D-8265-9671C1C1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5CFE-85D8-451C-BE41-F8ABD2AB4B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harles_Darwin" TargetMode="External"/><Relationship Id="rId2" Type="http://schemas.openxmlformats.org/officeDocument/2006/relationships/hyperlink" Target="http://en.wikipedia.org/wiki/Charles_Darwin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ginally applied by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le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rwi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heory of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voluti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59280" y="2852640"/>
            <a:ext cx="273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aning of “survival of the fitte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aptation of the species to the envir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roduc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ortance in society, science, economy, and medic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t is very important for us because the evolution explain us where we come from, the origin of the life and where we are going in the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477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medicine there are the Antibiotics resistance of bacteries and virus because their evolution, for example HIV virus, tetanus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tibiotics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Antibiotic resistance.svg"/>
          <p:cNvPicPr/>
          <p:nvPr/>
        </p:nvPicPr>
        <p:blipFill>
          <a:blip r:embed="rId1"/>
          <a:stretch/>
        </p:blipFill>
        <p:spPr>
          <a:xfrm>
            <a:off x="3348000" y="2060640"/>
            <a:ext cx="24685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28:26Z</dcterms:created>
  <dc:creator>mluna</dc:creator>
  <dc:description/>
  <dc:language>en-US</dc:language>
  <cp:lastModifiedBy>Ana</cp:lastModifiedBy>
  <dcterms:modified xsi:type="dcterms:W3CDTF">2009-03-23T03:16:14Z</dcterms:modified>
  <cp:revision>4</cp:revision>
  <dc:subject/>
  <dc:title>Survival of the Fittest </dc:title>
</cp:coreProperties>
</file>