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9B953-1FDB-465E-ABE4-63DB62ADF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B86C2-94F2-4C05-BD1F-ECBCB94D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F118F-1579-4FC5-9269-9F74F29DC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23F43-950A-4019-ADA8-D231304B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5B3A4-C4BF-44F0-912E-DA4E95741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F2D4D-193D-4162-8CB9-45D7302FB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15C05-15A9-4126-A11C-96ECF8245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75A0E-B65D-4D39-AC1F-C5581EEB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B93B0-E8FC-42A6-8FA4-ECA1E3439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C4E59-44D8-4741-B771-2700FD581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2C7A7-E1E5-4470-858C-82CA7922B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8C8F5-4F12-4C87-B2A5-43F1C0881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57B1F-5E17-46E8-BDFC-6883355D3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0BC6A-010E-4A49-AEE2-282DD07D1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7153E-DDCB-4AA0-9DBB-080E01064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6225D-E7EE-4BD2-B2E9-9826BAC76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EBF5F-9712-4C67-AF7A-742096328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CBC1-4B9E-41D7-B30F-00FC4581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8F179-6032-4ED1-82C5-70D0E5CB5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6F51-1022-42E5-B616-30445BDA3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2170-8503-4649-A9DA-0FB373D6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81A7-7C3E-472E-B277-038EDC82A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803D-8829-4D06-A9C3-476CAE92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32664-9311-40A1-A86D-0EE02312D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30AE-BE89-4EB5-9A98-949F409E33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B4BE-E2E1-436B-B568-0DEA5974655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vidson.com/" TargetMode="External"/><Relationship Id="rId2" Type="http://schemas.openxmlformats.org/officeDocument/2006/relationships/hyperlink" Target="http://www.kentsimmons.uwinnipeg.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000" spc="-1" strike="noStrike">
                <a:solidFill>
                  <a:srgbClr val="333399"/>
                </a:solidFill>
                <a:latin typeface="Tahoma"/>
              </a:rPr>
              <a:t>Reproductive techniques in Kingdom Monera</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3</a:t>
            </a:r>
            <a:br>
              <a:rPr sz="4400"/>
            </a:b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1" name="" descr=""/>
          <p:cNvPicPr/>
          <p:nvPr/>
        </p:nvPicPr>
        <p:blipFill>
          <a:blip r:embed="rId1"/>
          <a:stretch/>
        </p:blipFill>
        <p:spPr>
          <a:xfrm>
            <a:off x="826920" y="1628640"/>
            <a:ext cx="7490160" cy="4381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Transduction</a:t>
            </a:r>
            <a:endParaRPr b="0" lang="en-US" sz="36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 this process, DNA of a bacterial cell (donor) is transferred into another bacterial cell with the help of a bacteriophag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s the process by which genes are transferred from one bacterium to another by viruse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This process is known to occur in several bacterial species such as Salmonella, Escherichia, Micrococcus and Stigella .Fig 4</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60640" y="231480"/>
            <a:ext cx="7650000" cy="1166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4</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6" name="" descr=""/>
          <p:cNvPicPr/>
          <p:nvPr/>
        </p:nvPicPr>
        <p:blipFill>
          <a:blip r:embed="rId1"/>
          <a:stretch/>
        </p:blipFill>
        <p:spPr>
          <a:xfrm>
            <a:off x="468360" y="2133720"/>
            <a:ext cx="7126200" cy="410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333399"/>
                </a:solidFill>
                <a:latin typeface="Tahoma"/>
              </a:rPr>
              <a:t>Conjugation</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jugation</a:t>
            </a:r>
            <a:r>
              <a:rPr b="0" lang="es-ES" sz="3200" spc="-1" strike="noStrike">
                <a:solidFill>
                  <a:srgbClr val="000000"/>
                </a:solidFill>
                <a:latin typeface="Tahoma"/>
              </a:rPr>
              <a:t> is the process by which genes (on plasmids) are transferred from one bacterium to another by conjugation bridges. This transfer can be between bacteria of the same genus and species, between different species in a genus or between two bacteria of different genera. </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5</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1" name="" descr=""/>
          <p:cNvPicPr/>
          <p:nvPr/>
        </p:nvPicPr>
        <p:blipFill>
          <a:blip r:embed="rId1"/>
          <a:stretch/>
        </p:blipFill>
        <p:spPr>
          <a:xfrm>
            <a:off x="468360" y="1700280"/>
            <a:ext cx="7576920" cy="424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1"/>
              </a:rPr>
              <a:t>http://www.davidson.c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0000"/>
                </a:solidFill>
                <a:uFillTx/>
                <a:latin typeface="Tahoma"/>
                <a:hlinkClick r:id="rId2"/>
              </a:rPr>
              <a:t>http://www.kentsimmons.uwinnipeg.ed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http://www.tutorvista.com/search/kingdom-monera</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  </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kingdom includes two major groups name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1. </a:t>
            </a:r>
            <a:r>
              <a:rPr b="1" lang="es-ES" sz="3200" spc="-1" strike="noStrike">
                <a:solidFill>
                  <a:srgbClr val="000000"/>
                </a:solidFill>
                <a:latin typeface="Tahoma"/>
              </a:rPr>
              <a:t>Eubacteria</a:t>
            </a:r>
            <a:r>
              <a:rPr b="0" lang="es-ES" sz="3200" spc="-1" strike="noStrike">
                <a:solidFill>
                  <a:srgbClr val="000000"/>
                </a:solidFill>
                <a:latin typeface="Tahoma"/>
              </a:rPr>
              <a:t>: It consists of the true bacteria and bluegreen algae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1" lang="es-ES" sz="3200" spc="-1" strike="noStrike">
                <a:solidFill>
                  <a:srgbClr val="000000"/>
                </a:solidFill>
                <a:latin typeface="Tahoma"/>
              </a:rPr>
              <a:t>Archebacteria</a:t>
            </a:r>
            <a:r>
              <a:rPr b="0" lang="es-ES" sz="3200" spc="-1" strike="noStrike">
                <a:solidFill>
                  <a:srgbClr val="000000"/>
                </a:solidFill>
                <a:latin typeface="Tahoma"/>
              </a:rPr>
              <a:t>: It consists of ancient bacteri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ir one distinguishing characteristic is that they do not contain membrane bound "organelles". Particularly their genetic material is not bound by a nuclear envelope. Instead, their genetic material is a single circular loop of DNA (Figure 1). </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1</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7" name="" descr=""/>
          <p:cNvPicPr/>
          <p:nvPr/>
        </p:nvPicPr>
        <p:blipFill>
          <a:blip r:embed="rId1"/>
          <a:stretch/>
        </p:blipFill>
        <p:spPr>
          <a:xfrm>
            <a:off x="900000" y="1700280"/>
            <a:ext cx="7272360" cy="406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Reproduction in Bacteri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Binary Fission</a:t>
            </a:r>
            <a:r>
              <a:rPr b="0" lang="es-ES" sz="3200" spc="-1" strike="noStrike">
                <a:solidFill>
                  <a:srgbClr val="000000"/>
                </a:solidFill>
                <a:latin typeface="Tahoma"/>
              </a:rPr>
              <a:t> – Asexual reproduction</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s the most common mode of asexual reproduction. The cytoplasm and nucleoid of a bacterial cell divide equally into two, following replication of DNA. The cell wall and cytoplasm also split resulting in the formation of two daughter cells. Fig 2.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ig 2</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2" name="" descr=""/>
          <p:cNvPicPr/>
          <p:nvPr/>
        </p:nvPicPr>
        <p:blipFill>
          <a:blip r:embed="rId1"/>
          <a:stretch/>
        </p:blipFill>
        <p:spPr>
          <a:xfrm>
            <a:off x="324000" y="1628640"/>
            <a:ext cx="6984720" cy="439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ahoma"/>
              </a:rPr>
              <a:t>Sexual Reproduction</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t involves transfer of a portion of genetic material (DNA) from a donor cell to a recipient cell. This process is called as </a:t>
            </a:r>
            <a:r>
              <a:rPr b="1" lang="es-ES" sz="3200" spc="-1" strike="noStrike">
                <a:solidFill>
                  <a:srgbClr val="000000"/>
                </a:solidFill>
                <a:latin typeface="Tahoma"/>
              </a:rPr>
              <a:t>genetic recombination</a:t>
            </a:r>
            <a:r>
              <a:rPr b="0" lang="es-ES" sz="3200" spc="-1" strike="noStrike">
                <a:solidFill>
                  <a:srgbClr val="000000"/>
                </a:solidFill>
                <a:latin typeface="Tahoma"/>
              </a:rPr>
              <a:t> or </a:t>
            </a:r>
            <a:r>
              <a:rPr b="1" lang="es-ES" sz="3200" spc="-1" strike="noStrike">
                <a:solidFill>
                  <a:srgbClr val="000000"/>
                </a:solidFill>
                <a:latin typeface="Tahoma"/>
              </a:rPr>
              <a:t>parasexuality</a:t>
            </a:r>
            <a:r>
              <a:rPr b="0" lang="es-ES" sz="3200" spc="-1" strike="noStrike">
                <a:solidFill>
                  <a:srgbClr val="000000"/>
                </a:solidFill>
                <a:latin typeface="Tahoma"/>
              </a:rPr>
              <a:t>. It is known to occur in the following three ways: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forma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Transduction</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Tahoma"/>
              </a:rPr>
              <a:t>Conjugation</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Transforma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he first method by which bacterial genetic variation is accomplished is by </a:t>
            </a:r>
            <a:r>
              <a:rPr b="1" lang="es-ES" sz="3200" spc="-1" strike="noStrike">
                <a:solidFill>
                  <a:srgbClr val="000000"/>
                </a:solidFill>
                <a:latin typeface="Tahoma"/>
              </a:rPr>
              <a:t>transformation</a:t>
            </a:r>
            <a:r>
              <a:rPr b="0" lang="es-ES" sz="3200" spc="-1" strike="noStrike">
                <a:solidFill>
                  <a:srgbClr val="000000"/>
                </a:solidFill>
                <a:latin typeface="Tahoma"/>
              </a:rPr>
              <a:t>. Transformation is the process by which a bacterium "picks up" a gene or genes from the environment.</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In this process, one kind of bacterium is transformed into another kind. Fig 3</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15:38:54Z</dcterms:created>
  <dc:creator>Mluna</dc:creator>
  <dc:description/>
  <dc:language>en-US</dc:language>
  <cp:lastModifiedBy>Mluna</cp:lastModifiedBy>
  <dcterms:modified xsi:type="dcterms:W3CDTF">2009-08-17T02:08:24Z</dcterms:modified>
  <cp:revision>11</cp:revision>
  <dc:subject/>
  <dc:title>Reproductive techniques in Kingdom Monera</dc:title>
</cp:coreProperties>
</file>